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7CBF-7763-4BC8-9071-237F4F6D7F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4C1E-6CD4-4248-B04F-14B4B3B2B6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10CB-53FC-4669-B63D-BC2E716233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1782-A853-418A-B2F7-B13CF06D2F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826C-CFB5-4941-9EEF-704DD017CD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6545-0100-429D-A664-5B5A26CF32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68D8-DCC3-4ED7-A48D-C5C82CAE64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5A0C-46DC-46EB-A9C7-8A67FDE38F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B974-8112-445A-82FD-7194540EFF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3273-20E7-4358-943B-50EF61C1EF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70C3-532E-4647-AD12-F892931A26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82C9-E93D-4BBE-B562-E5367CBABC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D9D2-663C-4666-B729-4922EB9646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4ABA-2ECF-49F8-82F8-1CA981124B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8DD8-2244-4E55-9E47-46AF30699E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B0E8-D035-4C7A-AA63-6D7F7C035E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188E-B028-43B7-A6D8-5A85CB6341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FE94-40F3-4B52-92A4-D34CA447B4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5DB8-477F-4895-9556-3A10EF1D36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91C6-0E45-411D-9B98-79CD717D04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C279-B979-48FA-90C3-BF108FC3CD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FD62-F13D-4C7D-8CB7-0C61781F67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7239-2E63-4F2C-9FF0-7A18B6B837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A2F6-146A-4A05-9204-5F16A3FE9E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71BF-A57B-4762-9826-3F87A6B6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B2D4-9F1E-4A02-A5C5-AB38A12A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F902-8678-4DFB-9B57-B88956019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FA73-D02C-4C68-9B9F-BD3D4D9EF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DCE5-3BF2-4F0E-94A7-70CF3BCB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5C7D-C37E-4190-B9BD-AA4435AB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39AD-4509-473F-B1C7-31B8FC9B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270B-8A48-4D1B-8496-0E56941E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FF1E-53BB-4A9D-AF05-13DD9FF4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E80F-E2F1-4F1E-BBF9-C3803B71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FF9B-2B88-475E-90BE-6026B60B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B661-0FC1-45C5-AD4E-742EB94A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7C38-96C7-4432-B4CA-646BF12B925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  <a:ea typeface="MS PGothic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MS PGothic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jitë e Qarkullimit të Parave Kriminale On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ioni 1.4.2/Ora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oqëritë Tregtare jo Ak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1989000"/>
            <a:ext cx="82296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qëritë jo aktive tashmë kuptohen mirë si  teknika për pastrimin e parav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jo teknikë pastrimi parash përdoret edhe në botën virtuale, kryesisht në përpjekje për t’i bërë transaksionet të duken të ligjsh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umat e fondeve të transferuara drejt shoqërive jo aktive priren të jenë më të mëdha sesa shumat që transferohen tek/nga mushkat (ndërmjetësit) individu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ërmbledhje: Shoqëritë jo Ak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oqëritë jo aktive janë shoqëri pa aktivitet biznesi, pa aktiv ose pasiv, të themeluara vetëm me qëllimin e pasjes së llogarive banka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oqëritë jo aktive (ose llogaritë e tyre bankare) shpesh ndodhen në juridiksione të huaja në vendndodhjen e veprës pena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oqëritë jo aktive janë fasadë ligjshmërie për transfertat nga banka e paguesi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oqëritë jo Ak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Çfarë sfidash të tjera dalin kur shoqëritë jo aktive përdoren për të ardhurat e krimit onl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jia e Shoqërive jo Aktive (Shembull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qbërësi themelon një shoqëri jo ak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qbërësi hap një llogari bankare në emër të shoqërisë jo aktive në një juridiksion të hua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qbërësi kryen aktivitet mashtrues dhe transferon fonde nga llogaritë e viktimës në llogarinë bankare të shoqërisë jo ak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85640" y="1052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Shoqërive jo Ak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3213000"/>
            <a:ext cx="8229600" cy="29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burime provash mund të përdoren për të demonstruar përdorimin e shoqërive jo akti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Shoqërive jo Ak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mpetenca procedurale janë të disponueshme / kanë lidhje me identifikimin / përdorimin e shoqërive jo akti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grirja, Sekuestrimi dhe Konfiskimi i Fondeve të Shoqërive jo Ak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mpetenca procedurale janë në dispozicion / kanë lidhje me ngrirjen, sekuestrimin dhe konfiskimin e fondeve që mbahen nga shoqëritë jo akti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18446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ARTAT ME PARAPAGI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artat me Parapag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ejojnë që vlerat të jenë të lidhura paraprakisht</a:t>
            </a:r>
            <a:r>
              <a:rPr b="0" lang="en-US" sz="25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e një kartë pagese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y llojesh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arta me parapagim të mbyllura: mund të përdoren vetëm me një shoqëri ose dyqan të caktuar (p.sh. kartat për dhurata) dhe me to mund të bëhen blerje dhe të përdoren në mënyrë anonim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arta me parapagim të hapura: të lëshuara nga banka, karta krediti ose institucion financiar tjetër. Mund të përdoren njësoj si kartat e tjera për pages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 njëjta tipologji përdoret për kartat e rimbushjes së telefonave celularë dhe telefonat celularë të parapagua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jia e Kartave me Parapag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Keqbërësit marrin fonde, p.sh. nëpërmjet programeve malware për marrjen e paautorizuar të të dhënave bankar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ndet transferohet tek një mushkë (ndërmjetës) parash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ushka (ndërmjetësi) tërheq para kesh dhe i përdor ato për blerjen e kartave me parapagim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ë pas kartat përdoren ose shiten. Kur shiten, kartat zakonisht shiten më pak sesa vlera e tyre nominal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ktivat e Sesion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pjegoni tipologjitë e qarkullimit të parave kriminale të përdorimit të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erjes nëpërmjet Internet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qërive tregtare jo ak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rtave me parapagi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tformat e lojrave dhe të tregtisë on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Kartave me Parapag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burime provash mund të përdoren për të demonstruar përdorimin e kartave me parapagi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Kartave me Parapag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mpetenca procedurale janë të disponueshme / kanë lidhje me identifikimin / përdorimin e kartave me parapagi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grirja, Sekuestrimi dhe Konfiskimi i Kartave me Parapag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mpetenca procedurale janë të disponueshme / kanë lidhje me ngrirjen, sekuestrimin dhe konfiskimin e kartave me parapagi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LATFORMAT E LOJRAVE TË FATIT ONL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TFORMAT E LOJRAVE TË FATIT ON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ndësojnë lojrat e llojeve të ndryshme onli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konisht fondet hyjnë/dalin nëpërmjet sektorit bankar të zakonshëm (p.sh. transferim fondesh, kartë krediti/debiti, etj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usi ligjor i paqëndrueshëm dhe rregullimi i lojërave të fatit në intern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ipologjia e Lojrave të Fatit Online (Shembull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220500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eqbërësit dhe bashkëpunëtorët kanë shumë karta krediti të vjedhura për t’i konvertuar në kesh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eqbërësi mban kartë me parapagim (ose kartë tjetër kur duhen vendosur fonde të pastruara) dhe bashkëpunëtorët e tij mbajnë karta krediti të vjedhur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eqbërësi dhe bashkëpunëtorët hyjnë në platformën e lojrave të fatit dhe transferojnë fonde në llogaritë e tyre të lojrave të fat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ër shembull, keqbërësi dhe bashkëpunëtorët hyjnë në një dhomë pokeri së bashk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shkëpunëtorët qëllimisht humbasin lojën kundër keqbërës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timet transferohen në llogarinë e lojrave të fatit online të keqbërës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eqbërësi transferon fonde në kartën e pagesës në dispozicionin e tyre, e cila më pas përdoret ose shite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Platformave të Lojrave të Fatit On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99700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burime provash mund të përdoren për të demonstruar përdorimin e platformave të lojërave të fatit onl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114200"/>
            <a:ext cx="907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Platformave të Lojrave të Fatit On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mpetenca procedurale janë të disponueshme / kanë lidhje me identifikimin / përdorimin e platformave të lojërave të fatit onl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341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grirja, Sekuestrimi dhe Konfiskimi i Fondeve nga Platformat e Lojrave të Fatit Onl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mpetenca procedurale janë të disponueshme / kanë lidhje me ngrirjen, sekuestrimin dhe konfiskimin e fondeve nga platformat e lojërave të fatit onl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ërmbledh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pjegoni tipologjitë e qarkullimit të parave të krimit të përdorimit të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erjes nëpërmjet Internet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qërive jo Ak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rtave me Parapagi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tformave të lojrave dhe tregtisë on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234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LERJA NËPËRMJET INTERNETI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4"/>
          <p:cNvSpPr/>
          <p:nvPr/>
        </p:nvSpPr>
        <p:spPr>
          <a:xfrm>
            <a:off x="3451320" y="4581360"/>
            <a:ext cx="224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Pyetje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erje nëpërmjet Interneti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Çfarë mendon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jia e Blerjeve në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Keqbërësi arrin të futet tek të dhënat e kartës së kompromentuar ose kredencialet bankar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Keqbërësi blen mallra (p.sh. Biletë avioni) duke përdorur kredencialet e kompromentuar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Keqbërësi i nxjerr biletat e avionit në shitje në një faqe Interneti për ankande onlin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ikush e fiton ankandin dhe i dërgon pagesën keqbërësi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Keqbërësi i dërgon biletat e avionit fituesit të ankandi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erjet në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DISKUTIM: Cilat burime provash mund të përdoren për të demonstruar përdorimin e blerjeve në Intern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Blerjeve në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mpetenca procedurale janë të disponueshme / kanë lidhje me identifikimin e aktivitetit të blerjeve në Intern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grirja, Sekuestrimi dhe Konfiskimi i Blerjeve në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278100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mpetenca procedurale janë të disponueshme/kanë lidhje me ngrirjen, sekuestrimin dhe konfiskimin e Blerjeve në Intern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0000" y="19890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HOQËRITË TREGTARE JO AKT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JB</cp:lastModifiedBy>
  <cp:lastPrinted>2016-05-18T07:38:13Z</cp:lastPrinted>
  <dcterms:modified xsi:type="dcterms:W3CDTF">2017-10-05T05:26:57Z</dcterms:modified>
  <cp:revision>362</cp:revision>
  <dc:subject/>
  <dc:title>PowerPoint Presentation</dc:title>
</cp:coreProperties>
</file>